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D97-E69B-49A0-BE81-DF85A95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B42-267C-489F-8296-6A87F9C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5D2-637F-4E9B-9820-0E651C19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B49-0ADD-4206-91F8-E0F754A1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59F-5990-488E-A488-9EF51FE6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E5B-2F11-4F6A-A827-3163404B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95E-533F-419A-8792-CF2FE14D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D98-4019-46E6-9AAC-0B45AFB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6A7-3226-4875-B5BA-38B279D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450-6381-4C91-9644-306E565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BA4-74FF-44DA-99AA-0CC3A52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7C9-81C5-4E7A-B097-66C130CB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C36A-E182-431B-B737-5338569E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43040" y="1066680"/>
            <a:ext cx="4132440" cy="543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9144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3000" y="1046160"/>
            <a:ext cx="348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cell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last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1080" y="1066680"/>
            <a:ext cx="531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 (they m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 fo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9907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ubes for moving food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wor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416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3400" y="22860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8640" y="866880"/>
            <a:ext cx="7686720" cy="512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" y="1951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rw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-3808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533520"/>
            <a:ext cx="6781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ubes to move food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9760" y="53352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228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80" y="30492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9:37:49Z</dcterms:created>
  <dc:creator>Littleton Public Schools</dc:creator>
  <dc:description/>
  <dc:language>en-US</dc:language>
  <cp:lastModifiedBy>Jean Kavanagh</cp:lastModifiedBy>
  <dcterms:modified xsi:type="dcterms:W3CDTF">2008-01-09T19:36:45Z</dcterms:modified>
  <cp:revision>7</cp:revision>
  <dc:subject/>
  <dc:title>Plant Kingdom</dc:title>
</cp:coreProperties>
</file>